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AAEB-C14B-4612-9E43-1444CE84102B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C197-4F74-433A-A763-326E1F90D2A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c.net.au/science/articles/2010/10/13/3037285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02E2-383A-4FAD-86D2-345CAF6F9A5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Increasing the substrate concentration increases the reaction rate to a certain point.  Once the enzymes are saturated with substrate, the concentration of enzyme becomes the limiting facto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Protein (enzyme) folding depends on interactions between amino acid side (R) groups, some that are acidic or basic.  Each protein (enzyme) has an optimal pH at which they fold correctl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alibri"/>
              </a:rPr>
              <a:t>Temperature</a:t>
            </a: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 – At high temperatures, enzymes become denatured and don’t function.  At low temperatures, enzymes are too rigid to catalyse a reaction.  Enzymes usually function best at body temperature (37</a:t>
            </a:r>
            <a:r>
              <a:rPr b="0" lang="en-CA" sz="1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C in humans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FAB3-CC01-47C2-B6AB-AF6E93E55A5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bbc.co.uk/schools/gcsebitesize/science/add_aqa/proteins/proteinsrev3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63A-8681-4C7A-980D-E20DFB92E37D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bbc.co.uk/schools/gcsebitesize/science/add_aqa/proteins/proteinsrev3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8434-0859-49D7-98D1-D243C2F70F5E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biology4alevel.blogspot.ca/2014/09/22-summary-of-enzym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6BFE-E7B8-42D2-A8C1-A24729A2DE40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1.lsbu.ac.uk/water/enztech/diffus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C6A6-27B3-4B3F-BB81-38E703A89F46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1D0D-4A4E-42F3-ACE0-9843FEAD884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38B-372D-4ADD-8354-42D8CEF8939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95E5-6499-454D-B47E-A23523017A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-news.uchicago.edu/releases/06/061011.ied.shtml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YI: This enzyme is the insulin-degrading enzyme, control of which might help to cure Alzheimer’s 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91D-DF03-4F83-9CEA-46EE0EF976B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34C9-1EC2-487F-AE7A-5661A0489A0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ulieteaslickby411.blogspot.com/2011/04/innervation-of-penis-and-structure-of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690A-2338-434D-9FC0-E44E932272A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2AA2-1492-4A0A-BBF1-9A8BFC0AE8A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2.htm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B3A6-EDF9-4549-BC5F-1BFF652386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833-C502-4947-8745-6F768DA2A45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ousewares.hardwarestore.com/35-176-laundry-detergents.aspx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-processing into glucose through enzyme-catalyzed hydro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ese manufacturing involves enzymes called proteases (rennet) and lip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ry products without lacto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gents often contain proteases and amylases to remove protein and carbohydrate s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11C-DF95-41BF-AAE8-D1B4EF37B6D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kentsimmons.uwinnipeg.ca/cm1504/energy.htm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BE2-F502-42E0-9E46-EFD66D25553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chsweb.lr.k12.nj.us/mstanley/outlines/enzymesap/Enzymesap.htm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s between functional groups of enzyme &amp; substrate cause enzyme to alter shape to better fit subst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awesomebiology.wikispaces.com/Enzym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0F9F-F4C0-4C7A-9D0F-B595A295E1B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ff"/>
                </a:solidFill>
                <a:uFillTx/>
                <a:latin typeface="Arial"/>
              </a:rPr>
              <a:t>Cofactors:  Zn, Fe 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ff"/>
                </a:solidFill>
                <a:uFillTx/>
                <a:latin typeface="Arial"/>
              </a:rPr>
              <a:t>Coenzymes: NAD, FAD, Co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994-0D88-4CF3-B494-6B79EB9DCC0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C2A-0921-4977-AA9C-6C967C25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474-8622-4915-B7E6-DA160A2F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A37-9DF6-4293-8F9E-BB935B3C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B36-0697-4F3B-86E7-22076F8F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DAC-98FA-4B04-8BE3-77D01CC7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CD7-DDD3-4DAE-8EAB-6A971D4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66C-AF90-44FC-83A8-58D4D7B4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E6A-1DA7-4910-8361-006ABC24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78E-71FF-4A02-9093-3E1DFB87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B24-5681-438E-8EDF-A8F2CA1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011-E627-4695-AC23-16D2312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F07-9198-4E0E-93BE-5B46851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0BF4-46DF-4C89-AA42-6719BD43D7B2}" type="slidenum">
              <a:rPr b="0" lang="en-C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TUm-75-PL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8/anim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1.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vitamins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ate of Enzym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bstrate concen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1" descr="3e166752332b7f16e1dd0f4efca373310e4706fc.gif"/>
          <p:cNvPicPr/>
          <p:nvPr/>
        </p:nvPicPr>
        <p:blipFill>
          <a:blip r:embed="rId1"/>
          <a:srcRect l="0" t="10908" r="0" b="1090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db7ba3135d8cf5ce20b58387bf6b7784436ce279.gif"/>
          <p:cNvPicPr/>
          <p:nvPr/>
        </p:nvPicPr>
        <p:blipFill>
          <a:blip r:embed="rId1"/>
          <a:srcRect l="-13933" t="0" r="-1393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strat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22.png"/>
          <p:cNvPicPr/>
          <p:nvPr/>
        </p:nvPicPr>
        <p:blipFill>
          <a:blip r:embed="rId1"/>
          <a:srcRect l="-19326" t="0" r="-193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zym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fig3_11.gif"/>
          <p:cNvPicPr/>
          <p:nvPr/>
        </p:nvPicPr>
        <p:blipFill>
          <a:blip r:embed="rId1"/>
          <a:srcRect l="-1512" t="0" r="-15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mpetitive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geo-tec.net/images/competitive_inhibition.jpg"/>
          <p:cNvPicPr/>
          <p:nvPr/>
        </p:nvPicPr>
        <p:blipFill>
          <a:blip r:embed="rId1"/>
          <a:stretch/>
        </p:blipFill>
        <p:spPr>
          <a:xfrm>
            <a:off x="785880" y="1285920"/>
            <a:ext cx="76197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mpetitive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tive inhib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similar structure to the substr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d to the enzym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active site and block the substrate from bi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versible Inhibi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rugs &amp; pesticides act as irreversible inhibitors of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anide (inhibits key enzyme in cellular respir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iotics (inhibit bacterial enzy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cataly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chemical reactions without being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proteins with tertiary or quaternar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video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youtube.com/watch?v=XTUm-75-PL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061011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zyme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steric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regulators either inhibit or stimulate an enzy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7-10"/>
          <p:cNvPicPr/>
          <p:nvPr/>
        </p:nvPicPr>
        <p:blipFill>
          <a:blip r:embed="rId1"/>
          <a:stretch/>
        </p:blipFill>
        <p:spPr>
          <a:xfrm>
            <a:off x="1598760" y="1600200"/>
            <a:ext cx="59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allosteric_enzyme_r_cu_la_7841"/>
          <p:cNvPicPr/>
          <p:nvPr/>
        </p:nvPicPr>
        <p:blipFill>
          <a:blip r:embed="rId1"/>
          <a:stretch/>
        </p:blipFill>
        <p:spPr>
          <a:xfrm>
            <a:off x="1371600" y="1981080"/>
            <a:ext cx="63594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activators promote the action of th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inhibitors prevent the action of the enzyme (i.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competitive inhib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05-08_Feedback_1"/>
          <p:cNvPicPr/>
          <p:nvPr/>
        </p:nvPicPr>
        <p:blipFill>
          <a:blip r:embed="rId1"/>
          <a:stretch/>
        </p:blipFill>
        <p:spPr>
          <a:xfrm>
            <a:off x="2576520" y="473040"/>
            <a:ext cx="3989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eedback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to regulate multi-step metabolic path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 of a pathway usually acts as an allosteric inhibitor of the first enzyme of the path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ighered.mcgraw-hill.com/sites/0072437316/student_view0/chapter8/animations.html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Uses of 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-free dairy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 &amp; wheat syrup swee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4481438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 bind to specific reactants cal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bstrates bind to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ctive sit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enzymes, forming the enzyme-substrate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Image143"/>
          <p:cNvPicPr/>
          <p:nvPr/>
        </p:nvPicPr>
        <p:blipFill>
          <a:blip r:embed="rId1"/>
          <a:stretch/>
        </p:blipFill>
        <p:spPr>
          <a:xfrm>
            <a:off x="611280" y="1600200"/>
            <a:ext cx="79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d-Fi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ced-fit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del, the enzyme alters its shape to better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st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st with the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k and key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image136"/>
          <p:cNvPicPr/>
          <p:nvPr/>
        </p:nvPicPr>
        <p:blipFill>
          <a:blip r:embed="rId1"/>
          <a:stretch/>
        </p:blipFill>
        <p:spPr>
          <a:xfrm>
            <a:off x="4648320" y="2687760"/>
            <a:ext cx="403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:  Sucr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" descr="6x12"/>
          <p:cNvPicPr/>
          <p:nvPr/>
        </p:nvPicPr>
        <p:blipFill>
          <a:blip r:embed="rId1"/>
          <a:stretch/>
        </p:blipFill>
        <p:spPr>
          <a:xfrm>
            <a:off x="2197080" y="1600200"/>
            <a:ext cx="474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reactions do these enzymes cataly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down lactose (sugar found in mil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off a phosphate group from ATP, resulting in ADP + an inorganic phosphate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down starch (in saliva &amp; intest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s ATP from ADP and inorganic phosph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factors and Co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zymes requi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fa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unction as cataly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fa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n-protein molecules or inorganic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enzy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rganic co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0:10:58Z</dcterms:created>
  <dc:creator>jen</dc:creator>
  <dc:description/>
  <dc:language>en-US</dc:language>
  <cp:lastModifiedBy>rubina khan</cp:lastModifiedBy>
  <dcterms:modified xsi:type="dcterms:W3CDTF">2017-02-21T16:19:48Z</dcterms:modified>
  <cp:revision>189</cp:revision>
  <dc:subject/>
  <dc:title>Enzymes</dc:title>
</cp:coreProperties>
</file>